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29F-7299-4E7F-95D2-A06122CF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8B6-07C7-4711-8716-F2D806C9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A65-7D02-49C5-9429-C824EB15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EBB-EC29-4AA3-A215-497CE551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2361-6A2C-4B3B-BA4E-AD2499AA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4EE3-9ED9-4CDB-88BD-CA6AF3CC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C26-F3C3-43FA-9AA6-275737F4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E3D2-2F9D-4742-A614-E9C502DB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1DC3-49F7-4BD2-8984-E18C3088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2FC1-F4AB-4F4B-9CD0-B053F2DF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4098-2724-4390-97B5-10DA9917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7A5-73A9-4EDC-8E8F-6529F28B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EC19-41D7-4FAD-A5AC-81AFE44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17F6-F4DC-4EC3-981B-875E6B07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3872-F9C7-4351-9A8A-7A283904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9DD8-84B4-4DFD-A4E2-AB7CEA99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536D-4C03-4AD4-9C1B-4C113B1A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3831-1B50-4AAF-A6FA-18BF3A9A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DA66-7B05-4D0F-85D6-2EDFE556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804C-9533-4C28-A3FD-D53B4397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80BA-E968-4AE5-8EAB-AA58C9BE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93C54-D17D-4B58-AAB0-3DA70015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726-EB3E-4540-AA0E-2AF7153C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6CBF-85D3-4717-9BFC-68880BE2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EF7D-404F-4D06-9C53-7DB4BB8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767B-EFDE-4CD6-8666-E8D49188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F3D9-12E1-4B13-88FA-B76A5D56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226C-48D4-428E-828D-E91AA1DB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20E5-F420-4866-9A2E-BC8AAB01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A045-2E59-4F15-A49B-E000C74F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ECFF-1ABE-4B11-B8B4-17C2074B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00D3-7530-412E-ABD9-2BEB1953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FD26F-0D81-4209-891E-9FA53E5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40F-035A-4A42-8759-0ADF2992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93B40-3510-4769-B7D9-9C3851D5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1EAF-03AF-4BCA-B1A0-C36E9CAC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5A7B3-8B19-430F-91D4-80CCB3EA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B1DD7-8B7A-4A93-90F3-8B30DDA5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ADDA-0D6C-4A4F-8687-99DD7C02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7791-F7E2-4E3C-8FAF-D5F4E4B9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A4DF5-547A-431C-8433-14B5A702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F3E9-D61A-4048-87E1-497FD446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0039-76C1-4FE5-9A46-F26F072C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393F-81C8-40A2-BA56-ABAFA9AB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78E-A223-423B-8726-C0E97985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7E3D-24D1-4BCF-8FA9-B94DED6E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40781-E0C0-46EC-BED0-6712C0F8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23A35-B4FE-41FD-A815-FA9058B5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1E5A-31EA-4069-BE01-6FF4F173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6FF5C-B887-4C59-8F53-37D1E39B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7624F-4EF2-4237-A0E9-89EFB2E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C23B-5321-4875-AD8C-E75C0809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039B-9EEB-4FB1-9B7B-40F3113E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3E6E-2A7E-4422-BAE5-C485DF4E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49E67-09A1-446C-BAA4-53A7E767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D60-A66C-43CB-92F7-BCD0E545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413A6-A682-4BF8-A51B-670DE5CB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4EDA-C6B3-4797-B701-2A91F231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88B6B-B074-41FE-AFCB-83F00189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12C27-0494-4E3D-B584-9CF5DDBC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4302E-691A-4BC0-B44A-2CE6B977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7447-3E97-498D-978B-6596CE52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9A20-5789-410C-9641-5839C857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717A-9476-4FCD-91ED-6763CC7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ADCE-4CD0-45C2-B2FF-F9E7335E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5CDAA-BD7D-4DF8-83CE-112DDBD5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B27-343A-4731-918F-B9CDB94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ED054-4474-416F-9337-1202707F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D980-4A74-4725-BC4E-C8973B23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2167E-491B-4F7D-AD93-3B732320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02F6D-2395-422F-A3BA-DDDC8FB4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C6421-29B7-4235-96B8-0A2173AF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794B7-28FC-4ED7-A2F8-1B2216B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ACC8D-5452-48F8-8297-BC226307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01B71-1349-4C62-B6BB-8997796C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61A8-0B59-4926-B985-4306BE87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0D29A-7F15-4BF4-8CC7-4169CD5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E75-0519-49DB-B3F6-1F022B32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69D1-306C-4587-9B9B-6214C1E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ED72-ACC0-4F3B-89C0-C34F98C6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7F434-44E6-4461-B8C9-9B884CC1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D630-FCCD-4FF4-8AE5-4733624A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7184-126D-462A-A3F6-6DB3643A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5D68F-C453-420E-B40D-0BE4C61A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3DFE7-429C-4DE7-A70C-4B1A549D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DCB5E-A1E1-4E39-8EDE-BC91C20D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F4EC9-1B3C-4A0A-A33E-BE80317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46A2F-C909-48AA-92A8-BA3FEFE6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EB5-3356-462D-8C0D-A4B707B4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2B58D-B00D-4219-8171-84B6B6D4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C676F-9F13-4061-8AB5-AF43E7D2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85F8E-6121-4E5D-8732-9D3CC10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0DC4D-3629-454D-839A-B078E08A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32EDD-F53F-464F-A44B-AB008B02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AD91B-9C6A-46CC-AFA6-A2667187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93666-72F5-491E-93C9-9486B8C2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35BBC-84AC-4EEC-83B3-3FCE6D29E12B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FABF3-BA72-4FC6-8DE6-42EC99284553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600" y="34977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040" y="37065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3720" y="32788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18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840" y="3474000"/>
              <a:ext cx="612720" cy="408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3280" y="3910680"/>
              <a:ext cx="398160" cy="269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0400" y="3016080"/>
              <a:ext cx="631440" cy="40860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prstGeom prst="pie">
            <a:avLst/>
          </a:pr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F505D-A950-4000-9950-80CD8575C24B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94F9A-E254-4A63-A55B-6EDA6F66FFFD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14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840" y="2813760"/>
              <a:ext cx="612720" cy="408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3280" y="3250080"/>
              <a:ext cx="398160" cy="269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0400" y="2355840"/>
              <a:ext cx="631440" cy="40860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1A8FF-0429-4DEF-9E74-FC5430F98891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32C0D-03B5-4AAE-93BC-D2E8FCCB5498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7800" y="1599840"/>
              <a:ext cx="7087680" cy="347544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360" cy="3919320"/>
              <a:chOff x="222120" y="1254240"/>
              <a:chExt cx="342936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360" cy="22251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6120" y="3523320"/>
                <a:ext cx="1432800" cy="9550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5120" y="4543920"/>
                <a:ext cx="931680" cy="6296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920" y="2453040"/>
                <a:ext cx="1476360" cy="955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534FC-4B89-4A5C-8ACE-B35D279A919A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B5DC8-D72D-4861-A8DC-1E28B034F2DF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1385F-0EA1-481D-A613-95C538A6C5FF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6A7B4-999F-412C-8612-FA05687EEB87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CB47B-1A08-4996-AC36-C65EC6B6832B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6A403-C349-4D67-B821-842DABBA38EE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E95EE-7884-438D-AFB4-BC2A2652C736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E5C1A-DA48-41D9-A49B-8069643E0593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A4AFF-3F33-4D9D-814A-CD07CD766058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2668E-C880-4691-A531-8C8E4D5B961C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50840" y="1680840"/>
            <a:ext cx="3273480" cy="16398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Wrap Up A Long Way Gone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650840" y="3384720"/>
            <a:ext cx="3273480" cy="529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Mr. Rush / Mr. Farrell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Go Muskies!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0880" y="228240"/>
            <a:ext cx="480060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What we will do toda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6320" y="1574280"/>
            <a:ext cx="3607920" cy="223200"/>
          </a:xfrm>
          <a:prstGeom prst="rect">
            <a:avLst/>
          </a:prstGeom>
          <a:solidFill>
            <a:srgbClr val="74980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News Gothic MT"/>
              </a:rPr>
              <a:t>What you will do</a:t>
            </a:r>
            <a:endParaRPr b="0" lang="en-US" sz="10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47720" y="2021040"/>
            <a:ext cx="3703680" cy="410688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Go over Rubric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Finish book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040"/>
                </a:solidFill>
                <a:latin typeface="News Gothic MT"/>
              </a:rPr>
              <a:t>On a scale of 1-5, 1 being low and 5 being high, how would you rate </a:t>
            </a:r>
            <a:r>
              <a:rPr b="1" i="1" lang="en-US" sz="1500" spc="-1" strike="noStrike">
                <a:solidFill>
                  <a:srgbClr val="404040"/>
                </a:solidFill>
                <a:latin typeface="News Gothic MT"/>
              </a:rPr>
              <a:t>A Long Way Gone</a:t>
            </a:r>
            <a:r>
              <a:rPr b="1" lang="en-US" sz="1500" spc="-1" strike="noStrike">
                <a:solidFill>
                  <a:srgbClr val="404040"/>
                </a:solidFill>
                <a:latin typeface="News Gothic MT"/>
              </a:rPr>
              <a:t>. Why? What did you think about the ending? What 3 questions were answered? What are 2 questions you want answered? Why? Write in word and post on your wiki.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Extra Credit Question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Turn in book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Return/ sign back in books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708440" y="1576440"/>
            <a:ext cx="3603600" cy="218880"/>
          </a:xfrm>
          <a:prstGeom prst="rect">
            <a:avLst/>
          </a:prstGeom>
          <a:solidFill>
            <a:srgbClr val="74980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News Gothic MT"/>
              </a:rPr>
              <a:t>Objectives</a:t>
            </a:r>
            <a:endParaRPr b="0" lang="en-US" sz="10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59120" y="2019240"/>
            <a:ext cx="3701880" cy="410688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Identify/analyze issue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xplain how individuals/ groups (governmental and ngo’s) influence issue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alyze how current issues/possible solutions may be viewed differently by cultural group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alyze ways countries/ groups respond to unity vs. diversity quest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7:13:17Z</dcterms:created>
  <dc:creator>Craig Rush</dc:creator>
  <dc:description/>
  <dc:language>en-US</dc:language>
  <cp:lastModifiedBy>Craig Rush</cp:lastModifiedBy>
  <dcterms:modified xsi:type="dcterms:W3CDTF">2011-02-21T20:05:46Z</dcterms:modified>
  <cp:revision>1</cp:revision>
  <dc:subject/>
  <dc:title>Wrap Up A Long Way Gone</dc:title>
</cp:coreProperties>
</file>